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74B-7D9F-442E-8FC3-D341AC45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31A-02C9-4914-B6B1-83738744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1AC-9ECC-4B0A-85F3-38DCC510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4FD-978B-4BFF-B5DC-A1767E03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90E5-47F0-401D-A9C2-860C22E0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6D5D-A496-4A37-9A62-7EB1F24D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1A07-049A-4B45-961D-A27FBA43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A11D-56D0-46A0-80C5-1B69B64E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106B-1A17-4652-A115-8EB63781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FAB9-DFD1-4A5B-9F86-EDEB2761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2FC6-3588-40C1-8ECC-041A3F8B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91B-5817-4541-9771-3B91CC8D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F2C1-89A0-471D-96AA-ACC4795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CB54-EFA5-46D8-8AD6-0933EE1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2365-7968-44C4-A4B8-908D7038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B312-CDC4-42CC-A2F3-53AD8511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7096-20B1-4395-8B8C-2D87355B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428-0BA6-4CD5-A577-1442A234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C92-BBB8-45A2-B107-B2C5CE10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719-1604-420C-95EB-A8292879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AD5-92C8-41FF-848C-87D78E14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8C6-2A19-4021-AA03-D04C4A02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0A0-F6AE-49F7-90DE-EEBA09AF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BAE-08EB-4996-B7AA-286D66C8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7325-82C6-46FB-B982-1889120B6E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409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91D9-81D8-4B25-A664-05D239901496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fjpwbCUT2Q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1730520"/>
            <a:ext cx="5029200" cy="25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8462c"/>
                </a:solidFill>
                <a:latin typeface="Arial Black"/>
              </a:rPr>
              <a:t>Renaissance</a:t>
            </a:r>
            <a:endParaRPr b="0" lang="en-US" sz="54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4190760"/>
            <a:ext cx="50292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Origins &amp; Form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Technology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utenberg's Printing Pre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deas spread fa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’t be undon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re literatu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rives literac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ooks are still expensive though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Ar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atomy – Realisti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spective makes it 3-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thology &amp; Relig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ulp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ud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onatello &amp; Michelangel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icture 5" descr="school-of-athens"/>
          <p:cNvPicPr/>
          <p:nvPr/>
        </p:nvPicPr>
        <p:blipFill>
          <a:blip r:embed="rId1"/>
          <a:stretch/>
        </p:blipFill>
        <p:spPr>
          <a:xfrm>
            <a:off x="1371600" y="1557360"/>
            <a:ext cx="77724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INTRO PARAGRAPH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Context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(what was the Renaissance/why then/what came before, who enjoyed this movement?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Set the prompt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previous art styles, why is art importa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CLAIM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write your claim or the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Painting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listic fe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a Vinci: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Mona Lisa &amp; Last Supp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elangelo: Sistine Chap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rchitecture = domes/colum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Picture 5" descr="0035FCI"/>
          <p:cNvPicPr/>
          <p:nvPr/>
        </p:nvPicPr>
        <p:blipFill>
          <a:blip r:embed="rId1"/>
          <a:stretch/>
        </p:blipFill>
        <p:spPr>
          <a:xfrm>
            <a:off x="2895480" y="3865680"/>
            <a:ext cx="37339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Literatur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rite in vernacula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trarch: sonnets &amp; poe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occaccio: collection of off-color stor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hiavelli: 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The Pri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dvise on rul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t is better to be feared than lov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ds justify the mea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" name="Picture 6" descr="machiavelli"/>
          <p:cNvPicPr/>
          <p:nvPr/>
        </p:nvPicPr>
        <p:blipFill>
          <a:blip r:embed="rId1"/>
          <a:stretch/>
        </p:blipFill>
        <p:spPr>
          <a:xfrm>
            <a:off x="0" y="4343400"/>
            <a:ext cx="2185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Northern Renaissanc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ligion/Philosophy is the fo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Johannes Gutenber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vable type: Printing Pres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ess expensive book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d literac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nglish autho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re “Utopia”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hakespe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9" name="Picture 5" descr="vaneyck_arnolfini_art"/>
          <p:cNvPicPr/>
          <p:nvPr/>
        </p:nvPicPr>
        <p:blipFill>
          <a:blip r:embed="rId1"/>
          <a:stretch/>
        </p:blipFill>
        <p:spPr>
          <a:xfrm>
            <a:off x="0" y="0"/>
            <a:ext cx="1444680" cy="1981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sir-thomas-more-170x225"/>
          <p:cNvPicPr/>
          <p:nvPr/>
        </p:nvPicPr>
        <p:blipFill>
          <a:blip r:embed="rId2"/>
          <a:stretch/>
        </p:blipFill>
        <p:spPr>
          <a:xfrm>
            <a:off x="7589880" y="2362320"/>
            <a:ext cx="155412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akespeare"/>
          <p:cNvPicPr/>
          <p:nvPr/>
        </p:nvPicPr>
        <p:blipFill>
          <a:blip r:embed="rId3"/>
          <a:stretch/>
        </p:blipFill>
        <p:spPr>
          <a:xfrm>
            <a:off x="7147080" y="4267080"/>
            <a:ext cx="199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Focus of the North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tian Hum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n is to reform and fix the churc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ive in accordance to the Bib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fect societies based on the Gospe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rt honors the simple trades and business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form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5" descr="Jan-Van-Eyck-The-Arnolfini-Portrait-8246"/>
          <p:cNvPicPr/>
          <p:nvPr/>
        </p:nvPicPr>
        <p:blipFill>
          <a:blip r:embed="rId1"/>
          <a:stretch/>
        </p:blipFill>
        <p:spPr>
          <a:xfrm>
            <a:off x="0" y="0"/>
            <a:ext cx="1916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Legacy of the Renaissanc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71600" y="1600200"/>
          <a:ext cx="7772400" cy="5029200"/>
        </p:xfrm>
        <a:graphic>
          <a:graphicData uri="http://schemas.openxmlformats.org/drawingml/2006/table">
            <a:tbl>
              <a:tblPr/>
              <a:tblGrid>
                <a:gridCol w="4162320"/>
                <a:gridCol w="361008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HANGES DURING THE RENAISSANCE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ffdc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 OF CHANGE ON SOCIETY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ffdc85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INTING PRES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872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ore information, Less expensive, Rise in literacy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872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BLISHED ACCOUNTS OF MAPS &amp; CHART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xplora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LAWS PUBLISHED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eople more likely to know their right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UMANISTS SPREAD IDEA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iews changed about how to live, wonder about nature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RT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ew techniques used, Portrayed individuals realistically, Achievement valued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EOPLE BEGAN TO ? RELIGION &amp; POLITIC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testant Reformation, Revolutions will occur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8462c"/>
                </a:solidFill>
                <a:latin typeface="Arial Black"/>
              </a:rPr>
              <a:t>Utopia</a:t>
            </a: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 vs. </a:t>
            </a:r>
            <a:r>
              <a:rPr b="0" i="1" lang="en-US" sz="4000" spc="-1" strike="noStrike">
                <a:solidFill>
                  <a:srgbClr val="98462c"/>
                </a:solidFill>
                <a:latin typeface="Arial Black"/>
              </a:rPr>
              <a:t>The Princ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The Prince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R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Utopia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R5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d and answer the ques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mplete the Char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Intro Clip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Episode #6 11:20, 6 minut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vivors – Cradle of Capital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From Failure to Fruition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urope had suffered due to things beyond their contr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amin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a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urch . . 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naissanc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naissance = Rebirt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birth of what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assical ideas and belie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reek &amp; Roman cultu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rt &amp; Learn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ife – new idea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0" name="Picture 5" descr="Roman%2520ruins"/>
          <p:cNvPicPr/>
          <p:nvPr/>
        </p:nvPicPr>
        <p:blipFill>
          <a:blip r:embed="rId1"/>
          <a:stretch/>
        </p:blipFill>
        <p:spPr>
          <a:xfrm>
            <a:off x="5486400" y="4429080"/>
            <a:ext cx="365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Why Italy?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ity-States: no economic cri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ssical traditions: ruins and remin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ded with Muslims and Byzantiu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tr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Picture 5" descr="ancient_roman_ruins_SHNS"/>
          <p:cNvPicPr/>
          <p:nvPr/>
        </p:nvPicPr>
        <p:blipFill>
          <a:blip r:embed="rId1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Humanism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llectual movement focusing on the achievements and potential of human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(secular) Often not concerned with Christian teaching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chool, government, natu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(classicism) Studied the ancients: history, literature, and philosophy = human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In practice?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fe should be fulfill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e the beauty in individual achievements (in god’s image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ll-rounded = Renaissance Ma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usic, poetry, literature, engineering, inventing, history, art &amp; sculptu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nk da Vin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5" descr="ANd9GcSf0LCCM__HObEyWARiwU2S3ZPpHPn5zxMfHFBixKgwgslUw_oEIA"/>
          <p:cNvPicPr/>
          <p:nvPr/>
        </p:nvPicPr>
        <p:blipFill>
          <a:blip r:embed="rId1"/>
          <a:stretch/>
        </p:blipFill>
        <p:spPr>
          <a:xfrm>
            <a:off x="6172200" y="5068800"/>
            <a:ext cx="29718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naissance Challeng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rite I am a Renaissance pers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rmal, other hand,                  , du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eak multiple languag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y an instrument/s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rite poetry/stor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ducated…GPA over 3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tistic/takes an art cla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hlet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bbie (crafting, woodworking, cooking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at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vid read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terested in inventing thing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9907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ligion?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ny remained Catholic but humanism changed secular lif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ople could enjoy pleasure without sinn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deal Man: well-rounded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deal Woman: educated, supporters of the ar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9:48:49Z</dcterms:created>
  <dc:creator>Robert Kuenzi</dc:creator>
  <dc:description/>
  <cp:keywords/>
  <dc:language>en-US</dc:language>
  <cp:lastModifiedBy>Administrator</cp:lastModifiedBy>
  <dcterms:modified xsi:type="dcterms:W3CDTF">2016-02-09T16:15:52Z</dcterms:modified>
  <cp:revision>27</cp:revision>
  <dc:subject/>
  <dc:title>Renaiss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31033</vt:lpwstr>
  </property>
</Properties>
</file>